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815E1-5CCC-47C5-90B0-2650211CD6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9F5FE-D530-4AE4-B099-93C46719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94F55-D240-45A5-9515-2E0AFD69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4DCDE-5D22-44AF-98EF-0A8963A498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90F5C-C518-46A3-A954-231C65E9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EE06D-543F-449E-B6E8-F04700E6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AEF55-556E-4358-B3B4-A3C766DE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F3F68-DAEE-4279-B70C-A2E22771F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388D4-337C-44C2-B088-6B6A8EC9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67D87-D26A-42BF-BEDD-0F2D70E4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05AB2-C42A-457F-80F3-232F9DA4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8162C-F5FA-4E0D-8339-A1D918EF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6073-00AC-46D2-B075-C580F90BB10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十节  放松训练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过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深吸气过程中，尽量扩充腹部，感受腹部的扩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屏住呼吸，停留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缓慢地通过鼻腔呼气，呼气过程尽量持续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并感受呼气时腹部慢慢收缩。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   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过程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渐进性肌肉放松训练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MR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是训练个体能随意放松全身肌肉，以达到随意控制全身肌肉的紧张程度，保持心情平静，缓解紧张、恐惧、焦虑等负性情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步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集中注意力—肌肉紧张—保持紧张—解除紧张—肌肉松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顺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手臂部—上肢—头颈部—躯干部—下肢—足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手和前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伸出前臂，用力握紧双拳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手臂紧张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放松双手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（沉重、轻松、温暖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上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屈曲双臂，用力使双臂肌肉收缩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双臂肌肉紧张的感觉。 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放松双上肢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皱紧额部的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额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紧闭双目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由逆时针方向转动眼球，逐步加快速度；再顺时针方向转动眼球，加快速度；彻底放松。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咬紧牙齿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舌顶住上腭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将头后伸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向内收紧下颌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躯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肩向后用力扩展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上提双肩，尽量使双肩接近耳垂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肩用力向前收紧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躯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向上举起双上肢，同时用力使腰椎前屈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紧张臀部的肌肉，使会阴部用力上提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15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放松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足跟用力向前向下紧压，紧张大腿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足尖用例向上翘，足跟向下向后紧压，紧张小腿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56760" y="1785960"/>
            <a:ext cx="85726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足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脚趾用力绷紧，紧张足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足部肌肉紧张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此法可嘱患者自行练习，每日进行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要求持之以恒，循序渐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28760" y="185724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主要通过唤起宁静、轻松、舒适情景的想象和体验，来减少紧张、焦虑，控制唤醒水平，引发注意集中的状态，增强内心的愉悦感和自信心。如，想象自己躺在温暖阳光照射下的沙滩，迎面吹来阵阵微风，海浪有节奏地拍打着岸边；或者想象自己正在树林里散步，小溪流水，鸟语花香，空气清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2803320" y="11970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、想象放松训练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28760" y="185724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取舒适体位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仰卧，双手平放在身体的两侧，两脚分开，轻轻闭目，尽可能地放松身体。慢而深地进行呼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想象一种能够改变心理状态的情境（或者由治疗师给予指导语）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者身临其境的感受越深，其放松效果越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803320" y="11970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、想象放松训练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508360" y="259920"/>
            <a:ext cx="350028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B9A9-6474-4B84-96C2-5701999B6B2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85520" y="2000160"/>
            <a:ext cx="742932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的概念、分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式呼吸放松训练过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渐进性肌肉放松训练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想象放松训练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2A7C-0B58-443E-8036-F9995F7DFC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612720" y="1197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识记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回忆放松疗法的概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陈述腹式呼吸放松训练过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描述想象放松训练的基本原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归纳渐进性肌肉放松的训练顺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运用：利用各种放松训练方法进行临床干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B3E4-1885-4E4C-BAEB-0ADBD0AA3F8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467880" y="2494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F925-76CE-4600-A48E-9CBA5D4364C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71680" y="1857240"/>
            <a:ext cx="748008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是指身体和精神由紧张状态朝向松弛状态的过程。放松训练的目的是使肌肉放松，整个机体活动水平降低，达到心理上的松弛，从而使机体保持内环境平衡与稳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708320" y="40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的基本种类包括呼吸放松法、肌肉放松法、想象放松法三种，而具体放松训练的形式又多种多样，有渐进性放松训练、印度的瑜伽术、日本的禅宗，以及中国的气功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般认为，不论何种松弛反应训练技术，只要产生松弛反应都必须包含四种成份：安静的环境；被动、舒适的姿势；心情平静，肌肉放松；精神内守（一般通过重复默念一种声音，一个词或一个短句来实现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7708320" y="40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DF02-9CBB-4EAB-968C-64D8423FC63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329360" y="234936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二、放松训练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式呼吸放松训练，是把注意力集中在腹部，并用腹部呼吸，使胸腔和肺部充入更多的氧气，利用肺的容量，获得比正常浅呼吸多七倍的氧气量，从而使个体保持心情平静，达到缓解紧张、恐惧焦虑等负性情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过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取坐姿、站姿或卧姿，尽量选择让自己感到舒适的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注意力集中于腹部，把一只手置于腹部上方，缓慢地通过鼻腔深吸一口长气，吸气过程尽量持续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3:40:14Z</dcterms:created>
  <dc:creator>Home</dc:creator>
  <dc:description/>
  <cp:keywords/>
  <dc:language>en-US</dc:language>
  <cp:lastModifiedBy>赵欣</cp:lastModifiedBy>
  <dcterms:modified xsi:type="dcterms:W3CDTF">2015-12-15T08:55:57Z</dcterms:modified>
  <cp:revision>2</cp:revision>
  <dc:subject/>
  <dc:title>   第五章  康复护理技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